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DB0-0F52-43BF-9EE2-816AEE86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0E5-C493-4002-A802-078E9A5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219-205C-411F-A55D-8361FB2D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CF7-A2C7-4B03-BF54-40EEBFD0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6D5-6FC6-4215-BE53-DC23CDB0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43B-4190-4030-8397-F44AC7B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DD6-A9DD-4F4E-A2DA-C72636A7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063-E461-4598-A703-FC67FE39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C17-0235-4956-BBFA-C547E34C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723-08CC-4140-B0D8-EAFB9D1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DB9-3A0C-498A-ABB9-CA864314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87B-803D-4DC7-9EAA-C6E4DBA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BB2-A73F-4F65-9F68-3ECB2E7E3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封面——注明作品全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述目录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请严格按此顺序制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陈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决赛前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交作品材料（包括作品申报书、作品说明书，如有动画、视频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图片等需详细注明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人信息（填写下一张表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品介绍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作品背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括国内外研究现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作品设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明解决的主要问题和关键技术，需提供主要技术指标，可演示动画、视频、图片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创新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明与现有技术相比，作品在节能减排实质性技术和效果方面的显著优势，需提供技术经济分析说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可行性分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个人信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6386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371600"/>
          <a:ext cx="8229600" cy="4546440"/>
        </p:xfrm>
        <a:graphic>
          <a:graphicData uri="http://schemas.openxmlformats.org/drawingml/2006/table">
            <a:tbl>
              <a:tblPr/>
              <a:tblGrid>
                <a:gridCol w="1400040"/>
                <a:gridCol w="1535400"/>
                <a:gridCol w="1382400"/>
                <a:gridCol w="1959120"/>
                <a:gridCol w="1952640"/>
              </a:tblGrid>
              <a:tr h="41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第一作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学院简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专业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指导老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职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所在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团队成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学院简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专业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594360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目不足可增加数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2:26:44Z</dcterms:created>
  <dc:creator/>
  <dc:description/>
  <dc:language>en-US</dc:language>
  <cp:lastModifiedBy>雨林木风</cp:lastModifiedBy>
  <dcterms:modified xsi:type="dcterms:W3CDTF">2014-04-10T12:27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